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B16-7BE4-4404-833E-2C329BB6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CEA-D0E8-43C3-BBF0-58357FFC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2B2-BBB3-41FF-AC82-C3C781EC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72F-FBCA-4071-A608-87FAD093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D4A-9780-445A-BA1B-C66C87B3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F59-7600-4E0B-8157-18E438C0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7EFB-EC13-469E-AA44-19DA1169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CEF9-74F5-4918-91CE-6167BEEF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2D5-AECE-4E43-A2CB-7E8928E6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5A3-6C9F-416A-BC86-221F4404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B02B-ABE4-4ABC-8B92-1D6B8F58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636-3D7B-4E62-86B9-D55F0A76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3E9A-C7E6-4FD5-ACDA-067C1CF60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8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rshey Ki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let your taste buds w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804000"/>
                </a:solidFill>
                <a:latin typeface="Arial"/>
              </a:rPr>
              <a:t>Chocoliciou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4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4000"/>
                </a:solidFill>
                <a:latin typeface="Arial"/>
              </a:rPr>
              <a:t>Hard on the 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4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4000"/>
                </a:solidFill>
                <a:latin typeface="Arial"/>
              </a:rPr>
              <a:t>And sweet on the in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4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4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804000"/>
                </a:solidFill>
                <a:latin typeface="Arial"/>
              </a:rPr>
              <a:t>Makes everyone happy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223524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142416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934400" y="304920"/>
            <a:ext cx="1209600" cy="12952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hecke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ffb"/>
                </a:solidFill>
                <a:latin typeface="Cooper Black"/>
              </a:rPr>
              <a:t>Kiss, </a:t>
            </a:r>
            <a:r>
              <a:rPr b="0" lang="en-US" sz="4400" spc="-1" strike="noStrike">
                <a:solidFill>
                  <a:srgbClr val="ff9ffb"/>
                </a:solidFill>
                <a:latin typeface="Cooper Black"/>
              </a:rPr>
              <a:t>Kiss</a:t>
            </a:r>
            <a:r>
              <a:rPr b="0" lang="en-US" sz="4000" spc="-1" strike="noStrike">
                <a:solidFill>
                  <a:srgbClr val="ff9ffb"/>
                </a:solidFill>
                <a:latin typeface="Cooper Black"/>
              </a:rPr>
              <a:t>, </a:t>
            </a:r>
            <a:r>
              <a:rPr b="0" lang="en-US" sz="5400" spc="-1" strike="noStrike">
                <a:solidFill>
                  <a:srgbClr val="ff9ffb"/>
                </a:solidFill>
                <a:latin typeface="Cooper Black"/>
              </a:rPr>
              <a:t>Ki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5562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227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270a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52270a"/>
                </a:solidFill>
                <a:latin typeface="Arial"/>
              </a:rPr>
              <a:t>A sweet tooth Guaranteed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63800" y="1600200"/>
            <a:ext cx="341640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63800" y="1600200"/>
            <a:ext cx="3416400" cy="3657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fd0a"/>
                </a:solidFill>
                <a:latin typeface="Arial"/>
              </a:rPr>
              <a:t>HERSHEY KI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ershey kisses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o ahe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d treat yoursel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mmm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w that’s good cand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008c"/>
                </a:solidFill>
                <a:latin typeface="Arial"/>
              </a:rPr>
              <a:t>tr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f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08c"/>
                </a:solidFill>
                <a:latin typeface="Arial"/>
              </a:rPr>
              <a:t>You can make delicious bites from Hershey kisses for any occa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f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08c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f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08c"/>
                </a:solidFill>
                <a:latin typeface="Arial"/>
              </a:rPr>
              <a:t>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f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08c"/>
                </a:solidFill>
                <a:latin typeface="Arial"/>
              </a:rPr>
              <a:t>Family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f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08c"/>
                </a:solidFill>
                <a:latin typeface="Arial"/>
              </a:rPr>
              <a:t>Or anytime you feel like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fd0a"/>
                </a:solidFill>
                <a:latin typeface="Arial"/>
              </a:rPr>
              <a:t>Flav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40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0055"/>
                </a:solidFill>
                <a:latin typeface="Arial"/>
              </a:rPr>
              <a:t>Dark Strawb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100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0085"/>
                </a:solidFill>
                <a:latin typeface="Arial"/>
              </a:rPr>
              <a:t>Dark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d00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0012"/>
                </a:solidFill>
                <a:latin typeface="Arial"/>
              </a:rPr>
              <a:t>Candy-c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e6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e68b"/>
                </a:solidFill>
                <a:latin typeface="Arial"/>
              </a:rPr>
              <a:t>M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6a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aa11"/>
                </a:solidFill>
                <a:latin typeface="Arial"/>
              </a:rPr>
              <a:t>Caram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206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0609"/>
                </a:solidFill>
                <a:latin typeface="Arial"/>
              </a:rPr>
              <a:t>Milk C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Hugs(Milk chocolate and white chocol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005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990720" cy="74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1219320" cy="768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362320" y="3429000"/>
            <a:ext cx="922320" cy="708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038480" y="1981080"/>
            <a:ext cx="735120" cy="73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7772400" y="4800600"/>
            <a:ext cx="824040" cy="725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3200400" y="3657600"/>
            <a:ext cx="990720" cy="828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733920" y="4419720"/>
            <a:ext cx="711000" cy="609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ircl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4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rshey Kiss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chocolaty taste you always c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in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8:29:06Z</dcterms:created>
  <dc:creator>Educational Technology</dc:creator>
  <dc:description/>
  <dc:language>en-US</dc:language>
  <cp:lastModifiedBy>Educational Technology</cp:lastModifiedBy>
  <dcterms:modified xsi:type="dcterms:W3CDTF">2007-05-23T13:17:22Z</dcterms:modified>
  <cp:revision>5</cp:revision>
  <dc:subject/>
  <dc:title>Hershey Kisses</dc:title>
</cp:coreProperties>
</file>